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1E0-4C48-4A1C-A989-EDC3E7F1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722-6CA0-4840-97F3-F4A9D376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F1D-3887-4A9B-81FB-D1D8535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237-08A4-4F14-9FC5-6E960C31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470-8204-4F6B-ACA0-3FCDB676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049-1329-4D99-90ED-9F77FB0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60B-67C2-4922-B863-FC06948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DA0-A886-4D08-AA81-8DB8367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C2C-6FEB-4562-8A7A-7C01C46A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6BA-D2E7-4252-94A7-55E07AD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114-F569-4182-8409-92FEE5E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7B9-8F73-4743-AA8E-AED62C9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69A-8128-4F54-A4B6-9926FE4F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e4uoWQeM4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F9nA4Fg3Rw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guide 4-1 da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137160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 with a negative charge is called an anion.  It has one or more extra electrons, thus negative char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nions are named by taking part of the element name plus the suffix -id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 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nion of chlorine) = Chlo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365760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 with a positive charge is called a cation,.  It has lost 1 or more electrons, thus a positive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naming is easy, because its simply the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  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ation of sodium) = So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60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68580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ion of Ionic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ations and anions have opposite charges, therefore they are attracted to each o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04920" y="19051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When they get close enough, a chemical bond (force that holds atoms/ions together) for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ic bonds form when electrons transfer from one to anoth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tals bond with non metals ion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358128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zation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mount of energy used to remove an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move to a higher energy level when atom absorbs energy.  So when enough energy is absorbed, up a level can an electron 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60948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the amount of energy required varies among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zation energ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ly decreases as you move down a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ization energy generally increases as you move across a peri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281952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ompounds that contain ionic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we can show ionic bonding by using chemical 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hemical formulas tell us what and how many of each element are involved in the bond proc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5257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sodium chloride 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7200" y="8380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sometimes, one element cannot bond with another element on its own.  It may need to bring a similar elemen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Mg  +  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white board (pg 1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1:15:50Z</dcterms:created>
  <dc:creator>jpak</dc:creator>
  <dc:description/>
  <dc:language>en-US</dc:language>
  <cp:lastModifiedBy>Customer</cp:lastModifiedBy>
  <dcterms:modified xsi:type="dcterms:W3CDTF">2009-10-26T01:03:42Z</dcterms:modified>
  <cp:revision>16</cp:revision>
  <dc:subject/>
  <dc:title>Noteguide 4-1 day 2</dc:title>
</cp:coreProperties>
</file>